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19.11.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880560" y="850680"/>
            <a:ext cx="4954680" cy="37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0" y="942948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46600" y="942948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D709B-C01F-4FD7-8FCE-F2F022F369B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83880" rIns="8388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9.11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7B2CA-0AB9-4E70-BC60-148745E633E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2330B-DCD8-4B58-B386-7D53349AFDF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Kdo dále podepisuje MZ - v dalších prezentací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9C604A-A5BF-4BB0-BEDC-D935914D94A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e písemně na statutárního zástupce. Celý proces se znovu opakuj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5613EB-4522-46AE-B1AD-D245161BE21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7ED5A3-60C1-4BBF-BA31-23C72C7C914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imořádná průběžná MZ – z důvodu vyčerpání finančních prostředků; termín následující MZ se pak řídí podle této mimořádné průběžné MZ, tj. další průběžná MZ musí být předložena opět po třech měsících realizace projektu (Pravidla monitorování, Příručka pro příjem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774E2-44F1-47CA-9F1A-4304D0EF1FA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B63C6-9C17-44E9-B781-08C3B722296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08CD5-7A36-4F32-BABF-FF203A7E0A8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8AB876-89A8-4FD8-8734-E228D307113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21A8CA-DDAF-48E3-A2BD-F3657BB078A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Z se až do odvolání předkládá v listinné podobě (nezadává se do Monitu). TABULK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9680"/>
                <a:tab algn="l" pos="820800"/>
                <a:tab algn="l" pos="123336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4800"/>
                <a:tab algn="l" pos="4525920"/>
                <a:tab algn="l" pos="4937040"/>
                <a:tab algn="l" pos="5349960"/>
                <a:tab algn="l" pos="5761080"/>
                <a:tab algn="l" pos="6172200"/>
                <a:tab algn="l" pos="6585120"/>
                <a:tab algn="l" pos="6996240"/>
                <a:tab algn="l" pos="7407360"/>
                <a:tab algn="l" pos="7819920"/>
                <a:tab algn="l" pos="823104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61C32-FF14-4EDF-AD40-46BBB3D639D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995400" y="754200"/>
            <a:ext cx="4805280" cy="37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D1C1-14C1-4048-B577-B90D744E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F16F-216A-4EC5-A382-2047162D0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996B-CD93-4C24-8653-1869282D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C870-1526-409D-9AE2-91B757932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D665-8773-4333-80DB-9D93D656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4DBF-5C41-40FD-9589-93664E30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7040-2E4E-4C3B-8B11-613FC603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F476-3F2D-4B71-93A8-D997A8AF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8FF5-1F0A-4703-B5AF-C5E5288A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D2C3-8F9A-48CD-8460-845BEB57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8292-B3EA-419D-AE5A-609E6C71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5D92-A777-4B1C-BF5B-634F7B9E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B8EA90-3219-44C3-B652-ECCF170A38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mt.cz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0"/>
            <a:ext cx="788688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lang="cs-CZ" sz="4800" spc="-1" strike="noStrike">
                <a:solidFill>
                  <a:srgbClr val="ff9900"/>
                </a:solidFill>
                <a:latin typeface="Arial"/>
              </a:rPr>
              <a:t>Základní informace k předkládání monitorovacích zprav (MZ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82640" y="4208040"/>
            <a:ext cx="78868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248400" indent="-187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f9900"/>
                </a:solidFill>
                <a:latin typeface="Arial"/>
              </a:rPr>
              <a:t>Mgr. Martina Špak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o podepisuje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3920" y="1779120"/>
            <a:ext cx="7815240" cy="52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M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žádost o platbu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podepisuje statutární zástupce nebo oprávněná osoba (přiložené pověření statutárního zástupce uvedeného v právním aktu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zor: datum podpisu statutárního zástupce nemůže být dřívější než datum vyhotovení zprávy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Co následuje po odevzdání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753920" y="1994040"/>
            <a:ext cx="78152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rola MZ poskytovatelem dotace (komunikace s projektovým manažere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 vyzvání je příjemce povinen případné chybějící nebo doplňující údaje poskytnout do 15 pracovních dnů – vyzvání proběhne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e-mailem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a zhotovitele MZ a hlavní kontaktní oso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82280" y="921960"/>
            <a:ext cx="781524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5400" spc="-1" strike="noStrike">
                <a:solidFill>
                  <a:srgbClr val="ff9900"/>
                </a:solidFill>
                <a:latin typeface="Arial"/>
              </a:rPr>
              <a:t>Děkuji za pozorn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825200" y="3637080"/>
            <a:ext cx="7815240" cy="31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ak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gr. Martina Špakov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262699"/>
                </a:solidFill>
                <a:uFillTx/>
                <a:latin typeface="Arial"/>
              </a:rPr>
              <a:t>martina.spakova@msmt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262699"/>
                </a:solidFill>
                <a:uFillTx/>
                <a:latin typeface="Arial"/>
              </a:rPr>
              <a:t>cera@msmt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3920" y="301320"/>
            <a:ext cx="781524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Co je potřeba předklád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3920" y="1564920"/>
            <a:ext cx="80722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ůběžná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věrečná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 ukončení: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MZ o udržitelnosti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  (1x ročně po ukončení projektu po dobu 5 le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průběžná M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: bez žádosti o platbu nebo se žádostí o platbu (v případě, že příjemce provedl vyúčtování způsobilých výdajů a žádá o jejich proplacení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imořádná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y odevzdáva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53920" y="1565280"/>
            <a:ext cx="807228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méně jednou za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 resp. 6 měsíc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od zahájení projektu (dle Rozhodnutí resp. Dodatku), vždy do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0 kalendářních dnů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konce monitorovacího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1. monitorovací obdob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) ode dne začátku realizac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) v souladu s kalendářními měsíci (od prvního dne měsíce, v němž začal projek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olená možnost se používá během celého období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825200" y="779040"/>
            <a:ext cx="757260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v Rozhodnutí je uvedeno datum zahájení projektu 1.5. 2009, datum podpisu akceptace je 8.5.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itorovací období: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7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edložení MZ: do 6. 9.200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alší MZ za období 8. 8. – 7. 11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itorovací období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31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7.,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edložení MZ: do 30. 8.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alší MZ za období 1. 8. – 31. 10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3"/>
          <p:cNvSpPr/>
          <p:nvPr/>
        </p:nvSpPr>
        <p:spPr>
          <a:xfrm>
            <a:off x="1825560" y="565200"/>
            <a:ext cx="7643880" cy="1857240"/>
          </a:xfrm>
          <a:prstGeom prst="rect">
            <a:avLst/>
          </a:pr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3920" y="207720"/>
            <a:ext cx="781524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e najít MZ?</a:t>
            </a:r>
            <a:br>
              <a:rPr sz="4400"/>
            </a:br>
            <a:r>
              <a:rPr b="1" lang="cs-CZ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Strukturální fondy – OP VK: Pro žadatele a příjem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1539720" y="2065320"/>
            <a:ext cx="8286840" cy="5286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5" name="Elipsa 9"/>
          <p:cNvSpPr/>
          <p:nvPr/>
        </p:nvSpPr>
        <p:spPr>
          <a:xfrm>
            <a:off x="3325680" y="4565520"/>
            <a:ext cx="185760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Přímá spojovací šipka 13"/>
          <p:cNvCxnSpPr/>
          <p:nvPr/>
        </p:nvCxnSpPr>
        <p:spPr>
          <a:xfrm flipH="1">
            <a:off x="7683120" y="4995720"/>
            <a:ext cx="2160" cy="15012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e nají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1754280" y="1351080"/>
            <a:ext cx="8072280" cy="6000480"/>
          </a:xfrm>
          <a:prstGeom prst="rect">
            <a:avLst/>
          </a:prstGeom>
          <a:ln w="0">
            <a:noFill/>
          </a:ln>
        </p:spPr>
      </p:pic>
      <p:sp>
        <p:nvSpPr>
          <p:cNvPr id="70" name="Elipsa 5"/>
          <p:cNvSpPr/>
          <p:nvPr/>
        </p:nvSpPr>
        <p:spPr>
          <a:xfrm>
            <a:off x="1754280" y="3351240"/>
            <a:ext cx="1428480" cy="285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Elipsa 6"/>
          <p:cNvSpPr/>
          <p:nvPr/>
        </p:nvSpPr>
        <p:spPr>
          <a:xfrm>
            <a:off x="3468600" y="2279520"/>
            <a:ext cx="2286000" cy="357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3920" y="-360"/>
            <a:ext cx="78152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V jaké formě odevzdat MZ a její přílo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611360" y="1564920"/>
            <a:ext cx="8215200" cy="57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stinná verz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vně spojena v jednom svaz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ždá příloha samostatně spo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livé přílohy je možné vyjm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ektronická verz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četně relevantních příloh na nepřepisovatelném CD – viz tabul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žádost o platbu a některé přílohy – viz tabu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8360" y="422280"/>
          <a:ext cx="9072360" cy="6786720"/>
        </p:xfrm>
        <a:graphic>
          <a:graphicData uri="http://schemas.openxmlformats.org/drawingml/2006/table">
            <a:tbl>
              <a:tblPr/>
              <a:tblGrid>
                <a:gridCol w="936720"/>
                <a:gridCol w="3238200"/>
                <a:gridCol w="2087640"/>
                <a:gridCol w="955800"/>
                <a:gridCol w="981000"/>
                <a:gridCol w="873000"/>
              </a:tblGrid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Číslo příloh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teriá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dp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stinná verz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enefit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onitorovací zprá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d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582840">
                <a:tc gridSpan="6"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ílohy monitorovací zpráv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onitorovací indikátory 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3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hled uzavřených zadávacích říze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A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A. Přehled čerpání veřejné podpory podle blokových výjime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B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B. Přehled čerpání veřejné podpory podle de minim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Žádost o platb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inalizovaná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upiska účetních dokladů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opie účetních dokladů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opie výpisu z účtu projektu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hled čerpání způsobilých výdajů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pracovaný rozpočet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pracovaný harmonogram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dpisové vzor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Sc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pracovní výkaz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aměstnanec, Nadřízený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mzdové náklad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cestovní náklad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odpis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žadavek na strukturu zaslané platby (u organizací se závaznými limity v oblasti mezd)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Sc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Žádost schválení podstatných změn GP/IP OPV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alší relevantní přílohy – prezenční listiny, výstupy z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/NE Relevant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/NE Relevant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</a:tbl>
          </a:graphicData>
        </a:graphic>
      </p:graphicFrame>
      <p:sp>
        <p:nvSpPr>
          <p:cNvPr id="76" name="Rectangle 1"/>
          <p:cNvSpPr/>
          <p:nvPr/>
        </p:nvSpPr>
        <p:spPr>
          <a:xfrm>
            <a:off x="4950000" y="-311400"/>
            <a:ext cx="18072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33274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3920" y="301320"/>
            <a:ext cx="78152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Jak odevzda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82640" y="1279080"/>
            <a:ext cx="8143920" cy="628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oporučeně poštou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náležit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resa poskytovatele podpory včetně kontaktní oso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méno příslušného PM, odbor C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18 12 Praha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zev a registrační číslo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pozornění „Neotvírat – Monitorovací zpráva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sobně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po domluvě s PM, potvrzení o převze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Rozhoduje datum doručení poskytovateli podpor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bdélník 4"/>
          <p:cNvSpPr/>
          <p:nvPr/>
        </p:nvSpPr>
        <p:spPr>
          <a:xfrm>
            <a:off x="3040200" y="2708280"/>
            <a:ext cx="5643360" cy="1928880"/>
          </a:xfrm>
          <a:prstGeom prst="rect">
            <a:avLst/>
          </a:prstGeom>
          <a:noFill/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1-18T11:47:23Z</dcterms:modified>
  <cp:revision>96</cp:revision>
  <dc:subject/>
  <dc:title>Snímek 1</dc:title>
</cp:coreProperties>
</file>